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2E64-672F-4B96-BFDC-AA314CB06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know what to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know where to grow… if they are all the sam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 are differ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6F1B-6A1F-425A-8E19-B54A8F86A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 bring book out of library. Make copies of pages you need. Leave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6201-36E0-4ECA-BC26-37D7288733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FA35-7B0B-4DCC-BCE8-8BB4C8D553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EB06-7247-405C-81E3-A1C80DB7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42D-A401-4C4A-A5D5-3F42F4F7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9E8-8832-4F46-B62B-5532DD6C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A65A-1082-4BD8-A68C-04D7E453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8B07-62A7-4B1E-B34C-0115E1FD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1446-F6FC-4E72-8E3A-B6EFE731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BB08-56C7-4DAE-A885-841982BC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4F8E-21D0-400E-ABA6-59E452E7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2A89-BCC1-4C92-8194-923815C8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A1AB-9256-4E73-B8D6-255BDF3B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A2937-E4E5-4F38-BF61-A87E8AD0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1260-7359-4E97-A047-F668AEF1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5653-F290-4A4F-9763-D0CBE1B5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E60B-6D13-429A-B3AB-89FFD514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1706-C0B8-4E3A-8D81-BB2B22DB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4DC6-CA0F-46C1-B2F7-E8BDAA29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1FDE-7476-4672-8535-24811E03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B9963-3C32-4EE8-9888-A347F86C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A0378-405E-493C-BFB2-3DE42B4F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E9092-8B0B-4C1E-83CC-237E1C87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F03A-5408-4768-9F8D-C469577F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218C3-329D-42C0-A8BF-F2FDA2CB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FA19-A9AB-436F-9BE4-1F4EE1CB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1E723-245C-4BFA-B08D-5FBE2C8C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ADAF2-8738-46AB-B738-9343094D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A921B-5D68-4B9A-9619-E6559900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4F8E3-762A-4BA1-86EC-ACB18764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BACD5-E40F-4197-8385-179F872C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E1885-0B58-4420-B3DE-DA14C734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AAB52-C08C-4B86-AEB1-BF25A8A8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CC5AF-360E-48A3-9750-B180FC4D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FD7AD-0466-4540-94CD-DB020CCA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6AA83-C6F1-41B3-9FB9-4B91442A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D014-DB92-48FA-A16F-EDB35B80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ADF89-EC59-4BBC-A574-673D0F96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8EF8A-A2CE-4455-BBE7-8C6E2A2F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DE3CA-9C5D-4B0A-8C0B-F0DC7750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A311B-97DE-40BC-922D-75598824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F3F65-416E-46E4-A923-D2C738A5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8C0D2-435B-4474-BAA4-9F1AFF13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71B5D-58F7-4214-8373-F8B95BEC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5D89C-934A-4ACD-A798-148E2951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DE8A1-A9D1-4DA9-8E96-29674BBF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EEC23-0476-4900-82C9-2D99AB18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EB2D-47C0-4E83-81F5-FE75D6BC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99ACD-E4DF-4A2E-A14E-9D1FD537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6F0F3-60EF-4022-BF4F-3A0F707F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2594C-4234-42B0-8AEA-48E45B71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1C547-2B6D-4C69-A0E4-5BC9F8C9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3C49F-47D1-478E-9D1A-A419EBF9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D2D7C-E7E7-40A7-9ADE-055E96A8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F7FEF-421F-46EE-9F74-FFD1821D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4F517-B7A3-4C72-96A9-3A9140B1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C4401-4A50-49A2-891D-1747C8A5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A8D63-3AC9-49E0-A7CC-B8D3E6D5D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617-C0D5-4557-9B2F-6635DAD1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58EFF-4292-4227-8947-8FFB7B5E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3B989-3604-4E61-9CBD-A27EB2DF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DE40E-9C63-4EDF-8355-8E15D4C3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9085E-3E7A-4299-AF8F-0FE29461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38007-2D91-4113-8987-77DC4C89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0738D-7B00-462A-A9E9-AD0A26BB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6FCC0-1CC4-47BD-AFEE-9A3151B7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D1753-59B3-4B9E-8350-1A8C020E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F8790-D7CB-45BB-8D86-AEE8AF9A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744EE-AB17-497D-A060-30546B02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CB9-4241-454F-9726-567946E9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F7A37-6E85-4FCC-959C-810D3AD3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E0BD7-BCD2-43E9-B976-921D6E2D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95DA0-6931-4FD3-8A64-DF2B4247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EB303-6282-40F4-B899-D88C83C2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96410-D3DA-4042-AF58-4B5AFB64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EEF0A-C31C-433C-83AC-03E46DBC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4A6D0-12F1-4B37-98B7-9FFA8F19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9B937-D3F1-4A9F-9F2F-81A2268E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21766-BCEC-4A8D-82D4-6F0B980B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00863-10EF-4869-9BE2-6BC398E8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DB3D-3272-46A5-B49D-BB869F8F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2E7DB-2EAC-4191-87AB-DC64249C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2C1D0-72B7-4DDF-9CE9-82653923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F3CE5-EA77-4728-8266-C356EF51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9BDC1-60A3-4430-9E5B-B9FA586E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C5EA2-F466-4E46-A2D7-D778C871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2C8-3E3E-44BA-A1B8-6582686C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0B7F-8247-4C54-9301-110AD283820D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E2FE-F88C-42F2-9774-9411407B7E9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63E2-5BC2-4EBB-A45A-58AA99A705E2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B44A-C344-4748-BB22-AC99223919C4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5545-24E8-4326-8E62-90073177318C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1DFE-7D15-4077-843D-975875745E2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F23F-DAF5-4AEF-8690-DA1819250AB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ED9B-E04C-412D-A4EA-F60BCED2980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F810-848F-42F9-BF67-F0644A21E28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8728-EAE6-41AD-91EC-A5E2DBA4702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713C-6AD9-40E4-834E-827E3235F4A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B5B0-F0A8-4F11-A891-510612C6EF6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2C59-41FE-4CF8-A74E-1616A2B74CC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4380-5FB0-4C9E-8941-287006E49F1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upload.wikimedia.org/wikipedia/commons/0/07/Gene.png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Oval Callout 19"/>
          <p:cNvSpPr/>
          <p:nvPr/>
        </p:nvSpPr>
        <p:spPr>
          <a:xfrm>
            <a:off x="304920" y="914400"/>
            <a:ext cx="8686800" cy="42670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47880">
            <a:solidFill>
              <a:srgbClr val="2f6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DNA is in all of my cells why aren’t my cells all the sam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AAFC-3D14-4D33-A2C2-B7BDC69EAB29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0173-E402-47D6-B6B0-A5A8648ADB3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5410080" y="2971800"/>
            <a:ext cx="1371600" cy="121932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32-Point Star 16"/>
          <p:cNvSpPr/>
          <p:nvPr/>
        </p:nvSpPr>
        <p:spPr>
          <a:xfrm>
            <a:off x="3962520" y="3886200"/>
            <a:ext cx="1752480" cy="1066680"/>
          </a:xfrm>
          <a:custGeom>
            <a:avLst/>
            <a:gdLst>
              <a:gd name="textAreaLeft" fmla="*/ 399960 w 1752480"/>
              <a:gd name="textAreaRight" fmla="*/ 1352520 w 175248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Flowchart: Sequential Access Storage 17"/>
          <p:cNvSpPr/>
          <p:nvPr/>
        </p:nvSpPr>
        <p:spPr>
          <a:xfrm>
            <a:off x="6934320" y="2971800"/>
            <a:ext cx="1676160" cy="838080"/>
          </a:xfrm>
          <a:prstGeom prst="flowChartMagneticTap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Smiley Face 20"/>
          <p:cNvSpPr/>
          <p:nvPr/>
        </p:nvSpPr>
        <p:spPr>
          <a:xfrm>
            <a:off x="380880" y="4724280"/>
            <a:ext cx="2286000" cy="1905120"/>
          </a:xfrm>
          <a:prstGeom prst="smileyFace">
            <a:avLst>
              <a:gd name="adj" fmla="val 9282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ttp://www-class.unl.edu/biochem/gp2/m_biology/animation/gene/gene_a2.html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ttp://www.stolaf.edu/people/giannini/flashanimat/molgenetics/transcription.swf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5D6C-D732-42FC-85E8-F1C9E1CBC308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9107-8D6C-4E24-8EA8-92F54AE1188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1000"/>
          </a:bodyPr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e code is now in English thanks to the enzym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e DNA couldn’t move out of the cell, but RNA can!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mRNA moves from nucleus to Ribosome  in cytoplasm  where  ribosome reads it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Now Ribosome cannot build a house by himself anymore than  you or I so he has some help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F75E-867C-48A1-87F7-8A730B29EC9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F61A-A189-4912-A25A-B9CC8CEAD18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4" descr=""/>
          <p:cNvPicPr/>
          <p:nvPr/>
        </p:nvPicPr>
        <p:blipFill>
          <a:blip r:embed="rId1"/>
          <a:stretch/>
        </p:blipFill>
        <p:spPr>
          <a:xfrm>
            <a:off x="347760" y="36360"/>
            <a:ext cx="8345520" cy="137808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RNA travels to Ribosome, and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RNA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Attaches the the  instructions (tRNA) to theRibosom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Ribosome then  reads the instruction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Remember that the ribosome cannot do this alone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e Translates it for his workers, and tells them what pieces he needs to make the hous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0BCB-849F-43F3-AA29-1C42B487E95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51B7-E0DA-44FE-B408-6D63A912DEC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His workers names ar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ransfer RNA  (tRNA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They bring amino acids and deliver them to Ribosome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Ribosome tells them what order to bond them together, and  they then leave to bring more piec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n this way every protein in the body is made from a chain of amino acid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E4F2-D00D-497B-8DFE-C2CE6D87D1A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96C3-8A61-4916-BE04-298646C8521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ranscription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Enzyme  called transcriptase unzips and Transcribes the DNA into (messenger RNA) mR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ingle chain with Uricil instead of  Thymin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RNA takes the message to Ribosom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ranslation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ibosome gets help from Transfer RNA (tRNA) and builds a chain of amino acids (protein)  Turning a code into a protei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There are many Ribosomes in a cell, and they can all work on different proteins at the same time.. In this way the cell can build even faster!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D76B-AEB2-4433-88A3-23F0353B2B9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F243-4395-4525-A56C-21F3618B507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ttp://www.stolaf.edu/people/giannini/flashanimat/molgenetics/translation.swf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ttp://www-class.unl.edu/biochem/gp2/m_biology/animation/gene/gene_a3.html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1D44-B703-4DF0-A7B0-B7345DFDC4B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219F-E5BA-472E-A6B2-F8BB8B1CE26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  <p:sp>
        <p:nvSpPr>
          <p:cNvPr id="37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06CB-1A9E-4015-B478-E545C3BA598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8839-DAE1-4A17-BB1B-837799A4AF8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1" name="Picture 2" descr="http://www.accessexcellence.org/RC/VL/GG/images/protein_synthesis.gif"/>
          <p:cNvPicPr/>
          <p:nvPr/>
        </p:nvPicPr>
        <p:blipFill>
          <a:blip r:embed="rId2"/>
          <a:stretch/>
        </p:blipFill>
        <p:spPr>
          <a:xfrm>
            <a:off x="1082520" y="685800"/>
            <a:ext cx="54738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4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uble stranded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ymi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romosom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ingle stran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rici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re than one typ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R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02CA-86CE-4BCC-A222-829C8EFC6DA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6CB2-6F0D-48B9-BC56-BBAD48AED3E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09440" y="755640"/>
            <a:ext cx="8510760" cy="10796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514440" indent="-514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ssenger RNA (mRN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rings instructions from DNA in the nucleus to the cytoplas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ibosomal RNA (rRN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inds to the mRNA and uses instructions to assemble the amino acids in the correct ord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fer RNA (tRN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-Supplier. Delivers amino acids to the ribosome to be assembled into a protein. (amino acid delivery truck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ttp://www.johnkyrk.com/DNAtranslation.htm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ttp://learn.genetics.utah.edu/content/begin/dna/transcribe/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17F0-F0C5-49D5-82D7-F49DE2132178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601D-2980-492B-B926-7CAF93A519F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http://www.mtrinstitute.com/images/DNA.jpg"/>
          <p:cNvPicPr/>
          <p:nvPr/>
        </p:nvPicPr>
        <p:blipFill>
          <a:blip r:embed="rId2"/>
          <a:stretch/>
        </p:blipFill>
        <p:spPr>
          <a:xfrm>
            <a:off x="243000" y="1600200"/>
            <a:ext cx="8291520" cy="5257800"/>
          </a:xfrm>
          <a:prstGeom prst="rect">
            <a:avLst/>
          </a:prstGeom>
          <a:ln w="0">
            <a:noFill/>
          </a:ln>
        </p:spPr>
      </p:pic>
      <p:sp>
        <p:nvSpPr>
          <p:cNvPr id="32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DA06-F84B-404B-A813-1436C762764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0280-62E7-453B-BD22-BDB224184FC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ut they all have the information so they could be the sam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NA fragme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ne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8D78-CC73-465C-A75C-6BF42C72C2C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FC20-C74E-49ED-8D52-09C8C5E3635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Proteins have job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hat are some things they can do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Some proteins are called enzymes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Some are structural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rbel"/>
              </a:rPr>
              <a:t>Where are proteins  made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ibosom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5E5C-F2D9-41FE-99E9-288C8AC4457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714F-2539-448B-A4F1-EE08727880E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2" descr="http://www.dreamingintechnicolor.com/IdeaLab/membrane_proteins.jpg"/>
          <p:cNvPicPr/>
          <p:nvPr/>
        </p:nvPicPr>
        <p:blipFill>
          <a:blip r:embed="rId2"/>
          <a:stretch/>
        </p:blipFill>
        <p:spPr>
          <a:xfrm>
            <a:off x="914400" y="2362320"/>
            <a:ext cx="7315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4" descr=""/>
          <p:cNvPicPr/>
          <p:nvPr/>
        </p:nvPicPr>
        <p:blipFill>
          <a:blip r:embed="rId1"/>
          <a:stretch/>
        </p:blipFill>
        <p:spPr>
          <a:xfrm>
            <a:off x="189000" y="212760"/>
            <a:ext cx="4316400" cy="1012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3657600"/>
            <a:ext cx="8229600" cy="26510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DNA is made up of thousands of smaller pieces called genes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me of these genes are “turned on” and can be “read” depending on the cell, and the cells job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1E58-5489-435C-A90F-D09D846B8E3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8F36-36BD-4D6C-B079-29F44DF0C53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2" descr="File:Gen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33920" y="304920"/>
            <a:ext cx="45720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d0d0d"/>
                </a:solidFill>
                <a:latin typeface="Corbel"/>
              </a:rPr>
              <a:t>These genes are marked in code that enzymes can read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d0d0d"/>
                </a:solidFill>
                <a:latin typeface="Corbel"/>
              </a:rPr>
              <a:t>Back to gen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Corbel"/>
              </a:rPr>
              <a:t>Each gene (gene can be thousands of nucleotides long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d0d0d"/>
                </a:solidFill>
                <a:latin typeface="Corbel"/>
              </a:rPr>
              <a:t>Each single protein has a special purpose in a cel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Corbel"/>
              </a:rPr>
              <a:t>  </a:t>
            </a:r>
            <a:r>
              <a:rPr b="1" lang="en-US" sz="2600" spc="-1" strike="noStrike">
                <a:solidFill>
                  <a:srgbClr val="0d0d0d"/>
                </a:solidFill>
                <a:latin typeface="Corbel"/>
              </a:rPr>
              <a:t>Liver cel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Corbel"/>
              </a:rPr>
              <a:t>Enzyme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Corbel"/>
              </a:rPr>
              <a:t>Skin cel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Corbel"/>
              </a:rPr>
              <a:t>Muscle cell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4E38-44AC-402E-8E2D-139FA2B074D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C84F-01FA-4EE1-8A1D-9DA97406D51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 fontScale="95000"/>
          </a:bodyPr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o now we know what we are copying we are copying the blueprint for a protein…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But HOW do we do it???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Easy right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No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Imagine you are trying to build a house… (cell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Here are the problem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A…….the blueprints are locked inside the library (nucleus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B … The blueprints are written in another language…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… The man (Ribosome) who is going to build the house isn’t allowed inside the library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277B-570A-4847-AD50-3DFEC2005558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95D5-F386-4AC4-9C57-E6EA1E785C6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4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re are enzymes inside the library(nucleus) that are able to change the DNA code into “english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is step is call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Transcrip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enzyme (RNA polymerase) does this by unzipping the DNA, and reading one side making a copy of the DNA, (almost like replication and changing it so that Ribosome will be able to read i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1CAD-AD9A-4184-9824-9E3DD9437C8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BAE9-3A80-4631-9F45-F5339C13D36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s copy is called mRNA (messenger Ribonucleic acid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stead of being a double strand RNA is single stranded, and uses Uricil instead of thym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Uracil bonds with Adenine in R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nzyme knows where to  start and stop copying the DNA  because the DNA has a start, and stop code in those plac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B3B3-7C20-440D-9CA5-752A79585BD8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C4E6-F30A-4B78-8B60-A48757ECE87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3:43:30Z</dcterms:created>
  <dc:creator>Registered User</dc:creator>
  <dc:description/>
  <dc:language>en-US</dc:language>
  <cp:lastModifiedBy>Registered User</cp:lastModifiedBy>
  <dcterms:modified xsi:type="dcterms:W3CDTF">2009-01-28T13:10:51Z</dcterms:modified>
  <cp:revision>175</cp:revision>
  <dc:subject/>
  <dc:title>Heredity and Inheritance</dc:title>
</cp:coreProperties>
</file>